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NAMKY!!!!!!!!!!!!!!!!!!!!!!!!!!!!!!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-- nebudeme mat masku ale OKOL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-- pouzite pismo je VERDANA + mo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-- hlavny nadpis kazdeho casti je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-- medzi odrazkou (STVORCOVOU) a pismom su 2 medz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82263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63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379240"/>
            <a:ext cx="7769160" cy="1694520"/>
            <a:chOff x="685800" y="2379240"/>
            <a:chExt cx="7769160" cy="1694520"/>
          </a:xfrm>
        </p:grpSpPr>
        <p:sp>
          <p:nvSpPr>
            <p:cNvPr id="44" name=""/>
            <p:cNvSpPr/>
            <p:nvPr/>
          </p:nvSpPr>
          <p:spPr>
            <a:xfrm>
              <a:off x="685800" y="2491920"/>
              <a:ext cx="7769160" cy="146664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85800" y="2379240"/>
              <a:ext cx="776916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333399"/>
                  </a:solidFill>
                  <a:latin typeface="Verdana"/>
                </a:rPr>
                <a:t>Adaptívne rozšírenie detektora hrán typu SUSAN</a:t>
              </a:r>
              <a:br>
                <a:rPr sz="3500"/>
              </a:b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371600" y="3886200"/>
            <a:ext cx="6397560" cy="1749600"/>
            <a:chOff x="1371600" y="3886200"/>
            <a:chExt cx="6397560" cy="1749600"/>
          </a:xfrm>
        </p:grpSpPr>
        <p:sp>
          <p:nvSpPr>
            <p:cNvPr id="47" name=""/>
            <p:cNvSpPr/>
            <p:nvPr/>
          </p:nvSpPr>
          <p:spPr>
            <a:xfrm>
              <a:off x="1371600" y="3886200"/>
              <a:ext cx="6397560" cy="174960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3886200"/>
              <a:ext cx="63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39800" indent="-28260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39800"/>
                  <a:tab algn="l" pos="1187280"/>
                  <a:tab algn="l" pos="1636560"/>
                  <a:tab algn="l" pos="2085840"/>
                  <a:tab algn="l" pos="2535120"/>
                  <a:tab algn="l" pos="2984400"/>
                  <a:tab algn="l" pos="3433680"/>
                  <a:tab algn="l" pos="3882960"/>
                  <a:tab algn="l" pos="4332240"/>
                  <a:tab algn="l" pos="4781520"/>
                  <a:tab algn="l" pos="5230800"/>
                  <a:tab algn="l" pos="5680080"/>
                  <a:tab algn="l" pos="6129360"/>
                  <a:tab algn="l" pos="6578640"/>
                  <a:tab algn="l" pos="7027920"/>
                  <a:tab algn="l" pos="7477200"/>
                  <a:tab algn="l" pos="7926480"/>
                  <a:tab algn="l" pos="8375760"/>
                  <a:tab algn="l" pos="8825040"/>
                  <a:tab algn="l" pos="9274320"/>
                  <a:tab algn="l" pos="97236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  <a:ea typeface="Lucida Sans Unicode"/>
                </a:rPr>
                <a:t>Tímový pro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69720" y="254160"/>
            <a:ext cx="6539400" cy="897120"/>
            <a:chOff x="1269720" y="254160"/>
            <a:chExt cx="6539400" cy="897120"/>
          </a:xfrm>
        </p:grpSpPr>
        <p:sp>
          <p:nvSpPr>
            <p:cNvPr id="50" name=""/>
            <p:cNvSpPr/>
            <p:nvPr/>
          </p:nvSpPr>
          <p:spPr>
            <a:xfrm>
              <a:off x="1692360" y="333360"/>
              <a:ext cx="5694120" cy="7383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9720" y="254160"/>
              <a:ext cx="6539400" cy="89712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2280" bIns="3816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Vybrané algoritmy číslicového spracovania obraz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3360" y="626436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Bc. Vladimír Smatana, Bc. Marián Galiovský, Bc. Jaroslav Šarabok, Bc. Štefan Sádovský, Bc. Peter Svite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14360"/>
            <a:ext cx="825516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3 kroky geometrického prahovania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1.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Krok - počiatočné rozhodovanie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Verdana"/>
              <a:buAutoNum type="arabicPeriod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2.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Krok –  test bodov susediacich s hranou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71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35200" y="1911240"/>
                <a:ext cx="405144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65200" y="4319640"/>
                <a:ext cx="4546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564000" y="5832360"/>
                <a:ext cx="2565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Neighbor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7000" y="503280"/>
            <a:ext cx="8229600" cy="37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3. Krok – nezaradené body vzdialené od hrany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337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85920" y="3586320"/>
                <a:ext cx="468144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09920" y="5300640"/>
                <a:ext cx="2746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Neighbor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2342880" y="1905120"/>
            <a:ext cx="4554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900" spc="-1" strike="noStrike">
                <a:solidFill>
                  <a:srgbClr val="000000"/>
                </a:solidFill>
                <a:latin typeface="Times New Roman"/>
              </a:rPr>
              <a:t>Obr.: Testovanie bodov susediacich s hrano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489744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58640"/>
            <a:ext cx="822960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gradientová metó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0240" y="5300640"/>
            <a:ext cx="458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900" spc="-1" strike="noStrike">
                <a:solidFill>
                  <a:srgbClr val="000000"/>
                </a:solidFill>
                <a:latin typeface="Times New Roman"/>
              </a:rPr>
              <a:t>Obr.: Testovanie bodov vzdialených od hran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82680" y="1300320"/>
            <a:ext cx="483732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Implementácia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333399"/>
                </a:solidFill>
                <a:latin typeface="Verdana"/>
              </a:rPr>
              <a:t>programové prostredie - MATLAB R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333399"/>
                </a:solidFill>
                <a:latin typeface="Verdana"/>
              </a:rPr>
              <a:t>Parametre</a:t>
            </a:r>
            <a:r>
              <a:rPr b="1" lang="sk-SK" sz="19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5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25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9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500" spc="-1" strike="noStrike">
                <a:solidFill>
                  <a:srgbClr val="333399"/>
                </a:solidFill>
                <a:latin typeface="Symbol"/>
                <a:ea typeface="Symbol"/>
              </a:rPr>
              <a:t>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GB" sz="25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i="1" lang="en-GB" sz="2500" spc="-1" strike="noStrike" baseline="-28000">
                <a:solidFill>
                  <a:srgbClr val="333399"/>
                </a:solidFill>
                <a:latin typeface="Arial"/>
              </a:rPr>
              <a:t>upper,</a:t>
            </a:r>
            <a:r>
              <a:rPr b="1" i="1" lang="en-GB" sz="2500" spc="-1" strike="noStrike">
                <a:solidFill>
                  <a:srgbClr val="333399"/>
                </a:solidFill>
                <a:latin typeface="Arial"/>
              </a:rPr>
              <a:t>  g</a:t>
            </a:r>
            <a:r>
              <a:rPr b="1" i="1" lang="en-GB" sz="2500" spc="-1" strike="noStrike" baseline="-28000">
                <a:solidFill>
                  <a:srgbClr val="333399"/>
                </a:solidFill>
                <a:latin typeface="Arial"/>
              </a:rPr>
              <a:t>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55640" y="-127080"/>
            <a:ext cx="7769160" cy="1467000"/>
            <a:chOff x="755640" y="-127080"/>
            <a:chExt cx="7769160" cy="1467000"/>
          </a:xfrm>
        </p:grpSpPr>
        <p:sp>
          <p:nvSpPr>
            <p:cNvPr id="169" name=""/>
            <p:cNvSpPr/>
            <p:nvPr/>
          </p:nvSpPr>
          <p:spPr>
            <a:xfrm>
              <a:off x="755640" y="-127080"/>
              <a:ext cx="7769160" cy="14670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5640" y="224280"/>
              <a:ext cx="776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 u="sng">
                  <a:solidFill>
                    <a:srgbClr val="333399"/>
                  </a:solidFill>
                  <a:uFillTx/>
                  <a:latin typeface="Verdana"/>
                </a:rPr>
                <a:t>Postup riešenia</a:t>
              </a: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 t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8280" y="147492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71640" y="3213000"/>
            <a:ext cx="1225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 t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76480" y="1476360"/>
            <a:ext cx="3162240" cy="476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71640" y="3213000"/>
            <a:ext cx="1225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 = 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 t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76480" y="1476360"/>
            <a:ext cx="3162240" cy="4764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3213000"/>
            <a:ext cx="1225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 t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76480" y="1476360"/>
            <a:ext cx="3162240" cy="4764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71640" y="3213000"/>
            <a:ext cx="1225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3343320"/>
            <a:ext cx="1656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0,2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3343320"/>
            <a:ext cx="1656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 0,25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55640" y="-127080"/>
            <a:ext cx="7769160" cy="1467000"/>
            <a:chOff x="755640" y="-127080"/>
            <a:chExt cx="7769160" cy="1467000"/>
          </a:xfrm>
        </p:grpSpPr>
        <p:sp>
          <p:nvSpPr>
            <p:cNvPr id="54" name=""/>
            <p:cNvSpPr/>
            <p:nvPr/>
          </p:nvSpPr>
          <p:spPr>
            <a:xfrm>
              <a:off x="755640" y="-127080"/>
              <a:ext cx="7769160" cy="14670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224280"/>
              <a:ext cx="776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 u="sng">
                  <a:solidFill>
                    <a:srgbClr val="333399"/>
                  </a:solidFill>
                  <a:uFillTx/>
                  <a:latin typeface="Verdana"/>
                </a:rPr>
                <a:t>Spracovanie obrazu</a:t>
              </a: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80920" y="1000800"/>
            <a:ext cx="801072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Základné operácie pri spracovaní obraz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detekcia h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detekcia roh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ruhy detektor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anny-ho detektor h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Harris-ov detektor roh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etóda SUS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navrhol Smith a k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detekcia hrán i roh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presnosť v lokalizácii h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jedinečná citlivos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dolnosť voči šumu a skresl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3343320"/>
            <a:ext cx="1656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 0,2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00000" y="3343320"/>
            <a:ext cx="1656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a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00000" y="3343320"/>
            <a:ext cx="1656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lang="sk-SK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ov 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upper,</a:t>
            </a: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  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lower</a:t>
            </a:r>
            <a:r>
              <a:rPr b="1" i="1" lang="sk-SK" sz="2400" spc="-1" strike="noStrike" baseline="-28000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2720" y="2924280"/>
            <a:ext cx="165564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US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upper = 13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US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lower = 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ov 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upper,</a:t>
            </a: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  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lower 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12720" y="2924280"/>
            <a:ext cx="165564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upper = 1</a:t>
            </a:r>
            <a:r>
              <a:rPr b="0" lang="sk-SK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4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lower = </a:t>
            </a:r>
            <a:r>
              <a:rPr b="0" lang="sk-SK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Vplyv parametrov 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upper,</a:t>
            </a: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  g</a:t>
            </a:r>
            <a:r>
              <a:rPr b="1" i="1" lang="en-GB" sz="2400" spc="-1" strike="noStrike" baseline="-28000">
                <a:solidFill>
                  <a:srgbClr val="333399"/>
                </a:solidFill>
                <a:latin typeface="Verdana"/>
              </a:rPr>
              <a:t>lower</a:t>
            </a:r>
            <a:r>
              <a:rPr b="1" i="1" lang="sk-SK" sz="3200" spc="-1" strike="noStrike" baseline="-28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05280" y="1417680"/>
            <a:ext cx="3162240" cy="4763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12720" y="2924280"/>
            <a:ext cx="165564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11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upper = 1</a:t>
            </a:r>
            <a:r>
              <a:rPr b="0" lang="sk-SK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en-GB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lower = </a:t>
            </a:r>
            <a:r>
              <a:rPr b="0" lang="sk-SK" sz="3000" spc="-1" strike="noStrike" baseline="-28000">
                <a:solidFill>
                  <a:srgbClr val="000000"/>
                </a:solidFill>
                <a:latin typeface="Times New Roman"/>
                <a:ea typeface="Lucida Sans Unicode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Dosiahnuté výsledky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iginá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38160" y="1585800"/>
            <a:ext cx="5496120" cy="2124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0920" y="4005360"/>
            <a:ext cx="8507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SAN + geometrické prahovanie s parametrami t=1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low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upp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838160" y="4394160"/>
            <a:ext cx="54961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Dosiahnuté výsledky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l"/>
              </a:rPr>
              <a:t>Originá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838160" y="1585800"/>
            <a:ext cx="5496120" cy="2124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4024440"/>
            <a:ext cx="856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l"/>
                <a:ea typeface="Lucida Sans Unicode"/>
              </a:rPr>
              <a:t>Adaptívny SUSAN + geometrické prahovanie s α=0.30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l"/>
                <a:ea typeface="Lucida Sans Unicode"/>
              </a:rPr>
              <a:t>lower</a:t>
            </a:r>
            <a:r>
              <a:rPr b="0" lang="en-US" sz="1900" spc="-1" strike="noStrike">
                <a:solidFill>
                  <a:srgbClr val="000000"/>
                </a:solidFill>
                <a:latin typeface="Aril"/>
                <a:ea typeface="Lucida Sans Unicode"/>
              </a:rPr>
              <a:t>=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l"/>
                <a:ea typeface="Lucida Sans Unicode"/>
              </a:rPr>
              <a:t>upper</a:t>
            </a:r>
            <a:r>
              <a:rPr b="0" lang="en-US" sz="1900" spc="-1" strike="noStrike">
                <a:solidFill>
                  <a:srgbClr val="000000"/>
                </a:solidFill>
                <a:latin typeface="Aril"/>
                <a:ea typeface="Lucida Sans Unicode"/>
              </a:rPr>
              <a:t>=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8160" y="4394160"/>
            <a:ext cx="54961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Dosiahnuté výsledky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iginá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4005360"/>
            <a:ext cx="856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SAN + geometrické prahovanie s parametrami t=1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low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upp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933560" y="1628640"/>
            <a:ext cx="5400720" cy="1887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908000" y="4398840"/>
            <a:ext cx="5400720" cy="18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Verdana"/>
              </a:rPr>
              <a:t>Dosiahnuté výsledky</a:t>
            </a:r>
            <a:r>
              <a:rPr b="1" i="1" lang="sk-SK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iginá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4048200"/>
            <a:ext cx="856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ívny SUSAN + geometrické prahovanie s 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α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0.20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low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8, g</a:t>
            </a:r>
            <a:r>
              <a:rPr b="0" lang="en-US" sz="1900" spc="-1" strike="noStrike" baseline="-28000">
                <a:solidFill>
                  <a:srgbClr val="000000"/>
                </a:solidFill>
                <a:latin typeface="Arial"/>
                <a:ea typeface="Lucida Sans Unicode"/>
              </a:rPr>
              <a:t>upp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Lucida Sans Unicode"/>
              </a:rPr>
              <a:t>=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933560" y="1628640"/>
            <a:ext cx="5400720" cy="1887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908000" y="4421160"/>
            <a:ext cx="540072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55640" y="-127080"/>
            <a:ext cx="7769160" cy="1467000"/>
            <a:chOff x="755640" y="-127080"/>
            <a:chExt cx="7769160" cy="1467000"/>
          </a:xfrm>
        </p:grpSpPr>
        <p:sp>
          <p:nvSpPr>
            <p:cNvPr id="58" name=""/>
            <p:cNvSpPr/>
            <p:nvPr/>
          </p:nvSpPr>
          <p:spPr>
            <a:xfrm>
              <a:off x="755640" y="-127080"/>
              <a:ext cx="7769160" cy="14670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5640" y="224280"/>
              <a:ext cx="776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 u="sng">
                  <a:solidFill>
                    <a:srgbClr val="333399"/>
                  </a:solidFill>
                  <a:uFillTx/>
                  <a:latin typeface="Verdana"/>
                </a:rPr>
                <a:t>Princíp SUSAN</a:t>
              </a: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92360" y="2844720"/>
            <a:ext cx="5670360" cy="332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9280" y="1316520"/>
            <a:ext cx="729144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673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kruhové okolie - ma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entrálny pixel „nucleus - jadro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hodnota 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57360" y="6093000"/>
            <a:ext cx="5975280" cy="366480"/>
            <a:chOff x="1557360" y="6093000"/>
            <a:chExt cx="5975280" cy="366480"/>
          </a:xfrm>
        </p:grpSpPr>
        <p:sp>
          <p:nvSpPr>
            <p:cNvPr id="63" name=""/>
            <p:cNvSpPr/>
            <p:nvPr/>
          </p:nvSpPr>
          <p:spPr>
            <a:xfrm>
              <a:off x="1557360" y="6093000"/>
              <a:ext cx="597528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5400" y="6094080"/>
              <a:ext cx="4757760" cy="3636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Obr.: Rôzne polohy kruhových </a:t>
              </a:r>
              <a:r>
                <a:rPr b="0" i="1" lang="sk-SK" sz="1900" spc="-1" strike="noStrike">
                  <a:solidFill>
                    <a:srgbClr val="000000"/>
                  </a:solidFill>
                  <a:latin typeface="Times New Roman"/>
                </a:rPr>
                <a:t>okolí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a obraze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Ďakujeme za pozornos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55640" y="-127080"/>
            <a:ext cx="7769160" cy="1467000"/>
            <a:chOff x="755640" y="-127080"/>
            <a:chExt cx="7769160" cy="1467000"/>
          </a:xfrm>
        </p:grpSpPr>
        <p:sp>
          <p:nvSpPr>
            <p:cNvPr id="66" name=""/>
            <p:cNvSpPr/>
            <p:nvPr/>
          </p:nvSpPr>
          <p:spPr>
            <a:xfrm>
              <a:off x="755640" y="-127080"/>
              <a:ext cx="7769160" cy="14670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5640" y="224280"/>
              <a:ext cx="776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 u="sng">
                  <a:solidFill>
                    <a:srgbClr val="333399"/>
                  </a:solidFill>
                  <a:uFillTx/>
                  <a:latin typeface="Verdana"/>
                </a:rPr>
                <a:t>Princíp SUSAN</a:t>
              </a: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4160" y="1138320"/>
            <a:ext cx="5218200" cy="31543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467000" y="4221000"/>
            <a:ext cx="6356160" cy="366480"/>
            <a:chOff x="1467000" y="4221000"/>
            <a:chExt cx="6356160" cy="366480"/>
          </a:xfrm>
        </p:grpSpPr>
        <p:sp>
          <p:nvSpPr>
            <p:cNvPr id="70" name=""/>
            <p:cNvSpPr/>
            <p:nvPr/>
          </p:nvSpPr>
          <p:spPr>
            <a:xfrm>
              <a:off x="1467000" y="4221000"/>
              <a:ext cx="635616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40760" y="4222440"/>
              <a:ext cx="5408640" cy="3636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Obr. : Zobrazenie oblastí USAN ako biele časti </a:t>
              </a:r>
              <a:r>
                <a:rPr b="0" i="1" lang="sk-SK" sz="1900" spc="-1" strike="noStrike">
                  <a:solidFill>
                    <a:srgbClr val="000000"/>
                  </a:solidFill>
                  <a:latin typeface="Times New Roman"/>
                </a:rPr>
                <a:t>okoli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32529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529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00720" y="4941720"/>
                <a:ext cx="2808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233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6280" y="5173560"/>
            <a:ext cx="4727520" cy="369000"/>
            <a:chOff x="746280" y="5173560"/>
            <a:chExt cx="4727520" cy="369000"/>
          </a:xfrm>
        </p:grpSpPr>
        <p:sp>
          <p:nvSpPr>
            <p:cNvPr id="77" name=""/>
            <p:cNvSpPr/>
            <p:nvPr/>
          </p:nvSpPr>
          <p:spPr>
            <a:xfrm>
              <a:off x="746280" y="5173560"/>
              <a:ext cx="472752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7720" y="5173560"/>
              <a:ext cx="288180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Výpočet uni-hodnôt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46280" y="5938920"/>
            <a:ext cx="2571480" cy="369000"/>
            <a:chOff x="746280" y="5938920"/>
            <a:chExt cx="2571480" cy="369000"/>
          </a:xfrm>
        </p:grpSpPr>
        <p:sp>
          <p:nvSpPr>
            <p:cNvPr id="80" name=""/>
            <p:cNvSpPr/>
            <p:nvPr/>
          </p:nvSpPr>
          <p:spPr>
            <a:xfrm>
              <a:off x="746280" y="5938920"/>
              <a:ext cx="257148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9840" y="5938920"/>
              <a:ext cx="230112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hodnota USAN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62560" y="5821200"/>
            <a:ext cx="2485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-12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 u="sng">
                <a:solidFill>
                  <a:srgbClr val="333399"/>
                </a:solidFill>
                <a:uFillTx/>
                <a:latin typeface="Verdana"/>
              </a:rPr>
              <a:t>Adaptívne rozšírenie SUSA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9680" y="1304640"/>
            <a:ext cx="8770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673"/>
              </a:lnSpc>
              <a:buClr>
                <a:srgbClr val="333399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arameter </a:t>
            </a:r>
            <a:r>
              <a:rPr b="1" i="1" lang="en-GB" sz="1800" spc="-1" strike="noStrike">
                <a:solidFill>
                  <a:srgbClr val="333399"/>
                </a:solidFill>
                <a:latin typeface="Verdana"/>
              </a:rPr>
              <a:t>t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je potrebné meniť adaptívne v závislosti od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lokálnej situácie v obra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3040" y="3651120"/>
            <a:ext cx="8346960" cy="2568600"/>
            <a:chOff x="473040" y="3651120"/>
            <a:chExt cx="8346960" cy="2568600"/>
          </a:xfrm>
        </p:grpSpPr>
        <p:sp>
          <p:nvSpPr>
            <p:cNvPr id="86" name=""/>
            <p:cNvSpPr/>
            <p:nvPr/>
          </p:nvSpPr>
          <p:spPr>
            <a:xfrm>
              <a:off x="473040" y="3651120"/>
              <a:ext cx="8346960" cy="2568600"/>
            </a:xfrm>
            <a:prstGeom prst="roundRect">
              <a:avLst>
                <a:gd name="adj" fmla="val 6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33480" y="3760920"/>
              <a:ext cx="7424640" cy="2347560"/>
            </a:xfrm>
            <a:prstGeom prst="roundRect">
              <a:avLst>
                <a:gd name="adj" fmla="val 6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673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vylep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š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enie USAN sum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á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tora zaveden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í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m adapt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í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vneho prah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73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reaguj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ú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ceho na lok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á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lnu zmenu jas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73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aplikovanie hysteréznej prahovej schémy, ktorou vytvorí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 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východiskovú odozvu na rohy/hrany a redukujeme falošn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 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pozitívne odozvy meraním hodnôt US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90840" y="2970360"/>
            <a:ext cx="6041880" cy="603000"/>
            <a:chOff x="1590840" y="2970360"/>
            <a:chExt cx="6041880" cy="603000"/>
          </a:xfrm>
        </p:grpSpPr>
        <p:sp>
          <p:nvSpPr>
            <p:cNvPr id="89" name=""/>
            <p:cNvSpPr/>
            <p:nvPr/>
          </p:nvSpPr>
          <p:spPr>
            <a:xfrm>
              <a:off x="1590840" y="2970360"/>
              <a:ext cx="6041880" cy="60300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7720" y="2970360"/>
              <a:ext cx="5024880" cy="51696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325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Rozšírenie predstavuje dva krok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35080" y="1406520"/>
            <a:ext cx="6406920" cy="2155680"/>
            <a:chOff x="235080" y="1406520"/>
            <a:chExt cx="6406920" cy="2155680"/>
          </a:xfrm>
        </p:grpSpPr>
        <p:sp>
          <p:nvSpPr>
            <p:cNvPr id="92" name=""/>
            <p:cNvSpPr/>
            <p:nvPr/>
          </p:nvSpPr>
          <p:spPr>
            <a:xfrm>
              <a:off x="235080" y="1406520"/>
              <a:ext cx="6406920" cy="21556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3640" y="1444320"/>
              <a:ext cx="5704200" cy="2080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673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  <a:ea typeface="Times New Roman"/>
                </a:rPr>
                <a:t>vypo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č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  <a:ea typeface="Times New Roman"/>
                </a:rPr>
                <a:t>ítame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kritériovú funkciu podľa rovnice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absolútnu zmenu jasu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ΔIa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279360"/>
            <a:ext cx="5313240" cy="460440"/>
            <a:chOff x="250920" y="279360"/>
            <a:chExt cx="5313240" cy="460440"/>
          </a:xfrm>
        </p:grpSpPr>
        <p:sp>
          <p:nvSpPr>
            <p:cNvPr id="95" name=""/>
            <p:cNvSpPr/>
            <p:nvPr/>
          </p:nvSpPr>
          <p:spPr>
            <a:xfrm>
              <a:off x="250920" y="279360"/>
              <a:ext cx="53132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440" y="279360"/>
              <a:ext cx="44622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Adaptívne vylepšenie prahu 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34052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89240" y="3564000"/>
                <a:ext cx="4565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9" name=""/>
          <p:cNvGrpSpPr/>
          <p:nvPr/>
        </p:nvGrpSpPr>
        <p:grpSpPr>
          <a:xfrm>
            <a:off x="206280" y="4848120"/>
            <a:ext cx="4449960" cy="369000"/>
            <a:chOff x="206280" y="4848120"/>
            <a:chExt cx="4449960" cy="369000"/>
          </a:xfrm>
        </p:grpSpPr>
        <p:sp>
          <p:nvSpPr>
            <p:cNvPr id="100" name=""/>
            <p:cNvSpPr/>
            <p:nvPr/>
          </p:nvSpPr>
          <p:spPr>
            <a:xfrm>
              <a:off x="206280" y="4848120"/>
              <a:ext cx="444996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280" y="4848120"/>
              <a:ext cx="396072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priemernú intenzitu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μ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v okolí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3360" y="34196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446640" y="5254560"/>
                <a:ext cx="2249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4383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39920" y="1898640"/>
                <a:ext cx="2655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116000" y="34290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76720" y="2205000"/>
                <a:ext cx="367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356000" y="2276640"/>
            <a:ext cx="291600" cy="460440"/>
            <a:chOff x="4356000" y="2276640"/>
            <a:chExt cx="291600" cy="460440"/>
          </a:xfrm>
        </p:grpSpPr>
        <p:sp>
          <p:nvSpPr>
            <p:cNvPr id="109" name=""/>
            <p:cNvSpPr/>
            <p:nvPr/>
          </p:nvSpPr>
          <p:spPr>
            <a:xfrm>
              <a:off x="4356000" y="2276640"/>
              <a:ext cx="287640" cy="366480"/>
            </a:xfrm>
            <a:custGeom>
              <a:avLst/>
              <a:gdLst>
                <a:gd name="textAreaLeft" fmla="*/ 360 w 287640"/>
                <a:gd name="textAreaRight" fmla="*/ 287280 w 287640"/>
                <a:gd name="textAreaTop" fmla="*/ 360 h 366480"/>
                <a:gd name="textAreaBottom" fmla="*/ 366120 h 366480"/>
              </a:gdLst>
              <a:ahLst/>
              <a:rect l="textAreaLeft" t="textAreaTop" r="textAreaRight" b="textAreaBottom"/>
              <a:pathLst>
                <a:path w="21600" h="27513">
                  <a:moveTo>
                    <a:pt x="120" y="0"/>
                  </a:moveTo>
                  <a:arcTo wR="120" hR="120" stAng="16200000" swAng="-5400000"/>
                  <a:lnTo>
                    <a:pt x="0" y="27393"/>
                  </a:lnTo>
                  <a:arcTo wR="120" hR="120" stAng="10800000" swAng="-5400000"/>
                  <a:lnTo>
                    <a:pt x="21480" y="27513"/>
                  </a:lnTo>
                  <a:arcTo wR="120" hR="120" stAng="5400000" swAng="-5400000"/>
                  <a:lnTo>
                    <a:pt x="21600" y="120"/>
                  </a:lnTo>
                  <a:arcTo wR="120" hR="1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83720" y="2276640"/>
              <a:ext cx="263880" cy="460440"/>
            </a:xfrm>
            <a:custGeom>
              <a:avLst/>
              <a:gdLst>
                <a:gd name="textAreaLeft" fmla="*/ 360 w 263880"/>
                <a:gd name="textAreaRight" fmla="*/ 263520 w 263880"/>
                <a:gd name="textAreaTop" fmla="*/ 360 h 460440"/>
                <a:gd name="textAreaBottom" fmla="*/ 460080 h 460440"/>
              </a:gdLst>
              <a:ahLst/>
              <a:rect l="textAreaLeft" t="textAreaTop" r="textAreaRight" b="textAreaBottom"/>
              <a:pathLst>
                <a:path w="21600" h="37668">
                  <a:moveTo>
                    <a:pt x="120" y="0"/>
                  </a:moveTo>
                  <a:arcTo wR="120" hR="120" stAng="16200000" swAng="-5400000"/>
                  <a:lnTo>
                    <a:pt x="0" y="37548"/>
                  </a:lnTo>
                  <a:arcTo wR="120" hR="120" stAng="10800000" swAng="-5400000"/>
                  <a:lnTo>
                    <a:pt x="21480" y="37668"/>
                  </a:lnTo>
                  <a:arcTo wR="120" hR="120" stAng="5400000" swAng="-5400000"/>
                  <a:lnTo>
                    <a:pt x="21600" y="120"/>
                  </a:lnTo>
                  <a:arcTo wR="120" hR="12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98280"/>
            <a:ext cx="8983440" cy="2703600"/>
            <a:chOff x="250920" y="98280"/>
            <a:chExt cx="8983440" cy="2703600"/>
          </a:xfrm>
        </p:grpSpPr>
        <p:sp>
          <p:nvSpPr>
            <p:cNvPr id="112" name=""/>
            <p:cNvSpPr/>
            <p:nvPr/>
          </p:nvSpPr>
          <p:spPr>
            <a:xfrm>
              <a:off x="250920" y="98280"/>
              <a:ext cx="8983440" cy="270360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600" y="145440"/>
              <a:ext cx="8029800" cy="26092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Pričo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α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je konštantný koeficient preddefinovaný podľa druhu aplikáci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 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0 &lt; α &lt; 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M je počet pixelov v okol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Mmax je počet pixelov v okolí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s najvyšším jas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Mmin je počet pixelov v okolí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s najnižším jas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25560" y="2967120"/>
            <a:ext cx="7291440" cy="33462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816280" y="6264360"/>
            <a:ext cx="3651120" cy="366480"/>
            <a:chOff x="2816280" y="6264360"/>
            <a:chExt cx="3651120" cy="366480"/>
          </a:xfrm>
        </p:grpSpPr>
        <p:sp>
          <p:nvSpPr>
            <p:cNvPr id="116" name=""/>
            <p:cNvSpPr/>
            <p:nvPr/>
          </p:nvSpPr>
          <p:spPr>
            <a:xfrm>
              <a:off x="2816280" y="6264360"/>
              <a:ext cx="365112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7360" y="6266160"/>
              <a:ext cx="3599640" cy="3636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Obr.: Histogram kruhového okoli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900000" y="2997360"/>
            <a:ext cx="0" cy="33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99736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630864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44000" y="2997360"/>
            <a:ext cx="0" cy="33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292720" y="593640"/>
                <a:ext cx="853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06640" y="1494000"/>
                <a:ext cx="3330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mask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500040" y="593640"/>
            <a:ext cx="8143920" cy="1330560"/>
            <a:chOff x="500040" y="593640"/>
            <a:chExt cx="8143920" cy="1330560"/>
          </a:xfrm>
        </p:grpSpPr>
        <p:sp>
          <p:nvSpPr>
            <p:cNvPr id="125" name=""/>
            <p:cNvSpPr/>
            <p:nvPr/>
          </p:nvSpPr>
          <p:spPr>
            <a:xfrm>
              <a:off x="500040" y="593640"/>
              <a:ext cx="8143920" cy="133056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77400" y="631800"/>
              <a:ext cx="7189200" cy="125712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673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  <a:ea typeface="Times New Roman"/>
                </a:rPr>
                <a:t>Nakoniec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sa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  <a:ea typeface="Times New Roman"/>
                </a:rPr>
                <a:t> vypočíta USAN hodnota </a:t>
              </a: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            zosumarizovaní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uni-hodnôt v okolí s praho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1640" y="1535400"/>
            <a:ext cx="717840" cy="459720"/>
            <a:chOff x="1601640" y="1535400"/>
            <a:chExt cx="717840" cy="459720"/>
          </a:xfrm>
        </p:grpSpPr>
        <p:sp>
          <p:nvSpPr>
            <p:cNvPr id="128" name=""/>
            <p:cNvSpPr/>
            <p:nvPr/>
          </p:nvSpPr>
          <p:spPr>
            <a:xfrm>
              <a:off x="1601640" y="1582560"/>
              <a:ext cx="717840" cy="3654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0600" y="1535400"/>
              <a:ext cx="259920" cy="459720"/>
            </a:xfrm>
            <a:custGeom>
              <a:avLst/>
              <a:gdLst/>
              <a:ahLst/>
              <a:rect l="l" t="t" r="r" b="b"/>
              <a:pathLst>
                <a:path w="21600" h="38181">
                  <a:moveTo>
                    <a:pt x="93" y="0"/>
                  </a:moveTo>
                  <a:arcTo wR="93" hR="93" stAng="16200000" swAng="-5400000"/>
                  <a:lnTo>
                    <a:pt x="0" y="38088"/>
                  </a:lnTo>
                  <a:arcTo wR="93" hR="93" stAng="10800000" swAng="-5400000"/>
                  <a:lnTo>
                    <a:pt x="21507" y="38181"/>
                  </a:lnTo>
                  <a:arcTo wR="93" hR="93" stAng="5400000" swAng="-5400000"/>
                  <a:lnTo>
                    <a:pt x="21600" y="93"/>
                  </a:lnTo>
                  <a:arcTo wR="93" hR="9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5360" y="2662920"/>
            <a:ext cx="5952960" cy="369000"/>
            <a:chOff x="495360" y="2662920"/>
            <a:chExt cx="5952960" cy="369000"/>
          </a:xfrm>
        </p:grpSpPr>
        <p:sp>
          <p:nvSpPr>
            <p:cNvPr id="131" name=""/>
            <p:cNvSpPr/>
            <p:nvPr/>
          </p:nvSpPr>
          <p:spPr>
            <a:xfrm>
              <a:off x="495360" y="2664000"/>
              <a:ext cx="595296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3200" y="2662920"/>
              <a:ext cx="5053680" cy="36900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Zavedieme nový prah  w, pričom :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0 &lt; w &lt;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3600" y="4373640"/>
            <a:ext cx="8555040" cy="1743120"/>
            <a:chOff x="363600" y="4373640"/>
            <a:chExt cx="8555040" cy="1743120"/>
          </a:xfrm>
        </p:grpSpPr>
        <p:sp>
          <p:nvSpPr>
            <p:cNvPr id="134" name=""/>
            <p:cNvSpPr/>
            <p:nvPr/>
          </p:nvSpPr>
          <p:spPr>
            <a:xfrm>
              <a:off x="363600" y="4373640"/>
              <a:ext cx="8555040" cy="174312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2280" y="4410000"/>
              <a:ext cx="6769440" cy="166860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673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prispôsobiť body podobné jadru s ohľadom na lokál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 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charakteristiky v okol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333399"/>
                </a:buClr>
                <a:buFont typeface="Wingdings" charset="2"/>
                <a:buChar char="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ur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čiť 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hodnot</a:t>
              </a:r>
              <a:r>
                <a:rPr b="1" lang="sk-SK" sz="1800" spc="-1" strike="noStrike">
                  <a:solidFill>
                    <a:srgbClr val="333399"/>
                  </a:solidFill>
                  <a:latin typeface="Verdana"/>
                </a:rPr>
                <a:t>y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USAN jemnejším a presnejším spôsob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468440" y="3598920"/>
            <a:ext cx="6205680" cy="639720"/>
            <a:chOff x="1468440" y="3598920"/>
            <a:chExt cx="6205680" cy="639720"/>
          </a:xfrm>
        </p:grpSpPr>
        <p:sp>
          <p:nvSpPr>
            <p:cNvPr id="137" name=""/>
            <p:cNvSpPr/>
            <p:nvPr/>
          </p:nvSpPr>
          <p:spPr>
            <a:xfrm>
              <a:off x="1468440" y="3598920"/>
              <a:ext cx="6205680" cy="63972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3200" y="3600360"/>
              <a:ext cx="4904280" cy="55188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sk-SK" sz="2400" spc="-1" strike="noStrike">
                  <a:solidFill>
                    <a:srgbClr val="333399"/>
                  </a:solidFill>
                  <a:latin typeface="Verdana"/>
                </a:rPr>
                <a:t>Nové parametre t a w umožňujú</a:t>
              </a:r>
              <a:r>
                <a:rPr b="1" i="1" lang="en-GB" sz="2400" spc="-1" strike="noStrike">
                  <a:solidFill>
                    <a:srgbClr val="333399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600200"/>
            <a:ext cx="82296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štruktúry v obraze sú zvyčajne nepredvídateľn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dva prahy: horný </a:t>
            </a:r>
            <a:r>
              <a:rPr b="1" i="1" lang="en-GB" sz="1800" spc="-1" strike="noStrike">
                <a:solidFill>
                  <a:srgbClr val="333399"/>
                </a:solidFill>
                <a:latin typeface="Verdana"/>
              </a:rPr>
              <a:t>g</a:t>
            </a:r>
            <a:r>
              <a:rPr b="1" i="1" lang="en-GB" sz="1800" spc="-1" strike="noStrike" baseline="-25000">
                <a:solidFill>
                  <a:srgbClr val="333399"/>
                </a:solidFill>
                <a:latin typeface="Verdana"/>
              </a:rPr>
              <a:t>upper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a dolný </a:t>
            </a:r>
            <a:r>
              <a:rPr b="1" i="1" lang="en-GB" sz="1800" spc="-1" strike="noStrike">
                <a:solidFill>
                  <a:srgbClr val="333399"/>
                </a:solidFill>
                <a:latin typeface="Verdana"/>
              </a:rPr>
              <a:t>g</a:t>
            </a:r>
            <a:r>
              <a:rPr b="1" i="1" lang="en-GB" sz="1800" spc="-1" strike="noStrike" baseline="-25000">
                <a:solidFill>
                  <a:srgbClr val="333399"/>
                </a:solidFill>
                <a:latin typeface="Verdana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voľba prahov v pra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upp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c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g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low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c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kde   0&lt;c</a:t>
            </a:r>
            <a:r>
              <a:rPr b="1" i="1" lang="en-GB" sz="18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&lt;c</a:t>
            </a:r>
            <a:r>
              <a:rPr b="1" i="1" lang="en-GB" sz="18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&lt;1</a:t>
            </a:r>
            <a:r>
              <a:rPr b="1" i="1" lang="en-GB" sz="1800" spc="-1" strike="noStrike" baseline="-25000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odporúčané hodno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sk-SK" sz="1800" spc="-1" strike="noStrike">
                <a:solidFill>
                  <a:srgbClr val="333399"/>
                </a:solidFill>
                <a:latin typeface="Verdana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0,8 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            c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0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tom pre N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Verdana"/>
              </a:rPr>
              <a:t>max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=20 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low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8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upp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55640" y="-127080"/>
            <a:ext cx="7769160" cy="1467000"/>
            <a:chOff x="755640" y="-127080"/>
            <a:chExt cx="7769160" cy="1467000"/>
          </a:xfrm>
        </p:grpSpPr>
        <p:sp>
          <p:nvSpPr>
            <p:cNvPr id="141" name=""/>
            <p:cNvSpPr/>
            <p:nvPr/>
          </p:nvSpPr>
          <p:spPr>
            <a:xfrm>
              <a:off x="755640" y="-127080"/>
              <a:ext cx="7769160" cy="14670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640" y="-42480"/>
              <a:ext cx="776916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500" spc="-1" strike="noStrike" u="sng">
                  <a:solidFill>
                    <a:srgbClr val="333399"/>
                  </a:solidFill>
                  <a:uFillTx/>
                  <a:latin typeface="Verdana"/>
                </a:rPr>
                <a:t>Optimálne vylepšenie geometrického prahu</a:t>
              </a: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8606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6400" y="4330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2:32:09Z</dcterms:created>
  <dc:creator>Vladimiro</dc:creator>
  <dc:description/>
  <dc:language>en-US</dc:language>
  <cp:lastModifiedBy>Vladimiro</cp:lastModifiedBy>
  <dcterms:modified xsi:type="dcterms:W3CDTF">2005-05-27T05:55:03Z</dcterms:modified>
  <cp:revision>16</cp:revision>
  <dc:subject/>
  <dc:title>Snímka 1</dc:title>
</cp:coreProperties>
</file>